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9DE-1EE1-4891-9BD1-295D85DC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29A-9F5F-4BBE-855E-005D75D0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2AC-DF93-4A3D-B013-9296B155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0336-39C5-4844-9F22-E32B21B8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E63-C33A-4B0B-A89F-13BCF776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6F2-6D24-4213-8E25-CAD5EE6F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3047-FDD7-41C8-822A-E1A2335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9CB-936D-4704-92B3-787284AC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5CE-2D93-4DCB-AC0C-5882143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AE4-C085-4EA9-BEC8-C3FC3222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314-95B1-464A-A117-AD4444B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573-A872-4018-986A-7E596A4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37C-31AA-4E69-AC45-32F6F01A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g Bushy Mustache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. t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2. hous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3. s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4. fr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ho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mous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brown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1. could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c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clown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fou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houl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3. arou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4. tow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ig Bushy Mustache</a:t>
            </a:r>
            <a:br>
              <a:rPr sz="35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ow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our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Bushy Mustac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arou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owe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rowni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8. flowerb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9. townhous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0. thousan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11. growl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5. soun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6. bouncing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7. shouted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2. loudes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3. allowed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4. withou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5. proudly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16. crowded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2:14:57Z</dcterms:created>
  <dc:creator>Kathryn.Cobb</dc:creator>
  <dc:description/>
  <dc:language>en-US</dc:language>
  <cp:lastModifiedBy>PGCPS Students</cp:lastModifiedBy>
  <cp:lastPrinted>2010-01-05T12:26:44Z</cp:lastPrinted>
  <dcterms:modified xsi:type="dcterms:W3CDTF">2010-01-05T12:26:58Z</dcterms:modified>
  <cp:revision>6</cp:revision>
  <dc:subject/>
  <dc:title>The Art Lesson Group A</dc:title>
</cp:coreProperties>
</file>